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50D-22E9-44FE-BA54-A0F2A8EA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F47-23F0-4E7C-834A-46F3EEA8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20D-F32F-4CEB-B178-2FB763DA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2F8-C1B1-4E7F-8C88-19AF482C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E1E5-1421-4BC6-89A7-EBA82AA3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B2C5-6D0A-4DF4-B5CD-FA9BCEA5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E481-51A6-4B97-A702-3A15BD67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DA5F-AE12-4663-AF26-3DD3922A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E424-D9C6-4914-B0F2-3D63FA44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4C4E-9DA9-43E9-BFC0-EA64BE49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CC21-DD15-4479-9F5D-8C324EE3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D76-D7D1-4AEC-AEDC-7CA01F17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E27F-0B63-41F7-90AA-377D5D7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C32D-32D8-4515-BDC6-2ECB9A41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0788-3FDB-4AC8-979E-2D0F2F69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B3DD-1C79-428E-97D3-71FF39E4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D4CB-D70F-4FDA-B503-B0FC8038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9A3-9E4D-4350-8445-B5383C5E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7AF-80FF-4C6E-86AE-FDA131EA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F01-22B0-4554-BD95-5AD2B77D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1A6-D7FB-4CF2-A05C-9209BF79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2DA-762C-41BE-852B-C6DDC38F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FB6-D125-4C91-8B4C-0A241286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E9D-D77A-4BA5-8A27-FB6BEDB5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F807-2D1F-4FBD-9C11-ABE51B069D9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BA66-0F66-46E8-B6D5-0D0A1B7A5C2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Vocabulary Kenlie and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 Jalia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external image school18.gif"/>
          <p:cNvPicPr/>
          <p:nvPr/>
        </p:nvPicPr>
        <p:blipFill>
          <a:blip r:embed="rId1"/>
          <a:stretch/>
        </p:blipFill>
        <p:spPr>
          <a:xfrm>
            <a:off x="3352680" y="3657600"/>
            <a:ext cx="3200400" cy="2784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external image Mathematics.jpg"/>
          <p:cNvPicPr/>
          <p:nvPr/>
        </p:nvPicPr>
        <p:blipFill>
          <a:blip r:embed="rId2"/>
          <a:stretch/>
        </p:blipFill>
        <p:spPr>
          <a:xfrm>
            <a:off x="1752480" y="609480"/>
            <a:ext cx="5715000" cy="9525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love_turkey_eat_fish.gif"/>
          <p:cNvPicPr/>
          <p:nvPr/>
        </p:nvPicPr>
        <p:blipFill>
          <a:blip r:embed="rId3"/>
          <a:stretch/>
        </p:blipFill>
        <p:spPr>
          <a:xfrm>
            <a:off x="7162920" y="3048120"/>
            <a:ext cx="9144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Bodoni MT Black"/>
              </a:rPr>
              <a:t>Integer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number with no fractional pa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3886200"/>
            <a:ext cx="1828800" cy="144792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86400" y="3581280"/>
            <a:ext cx="3352680" cy="2133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ATH ROCKS!!!(=“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Estimate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close guess of the actual value, usually with some thought or calculation involv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Alex estimated there were 10,000 sunflowers in the field by counting row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Flashcard of a math symbol for Approximately Equal To"/>
          <p:cNvPicPr/>
          <p:nvPr/>
        </p:nvPicPr>
        <p:blipFill>
          <a:blip r:embed="rId1"/>
          <a:stretch/>
        </p:blipFill>
        <p:spPr>
          <a:xfrm>
            <a:off x="7667640" y="5105520"/>
            <a:ext cx="1476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Ascending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ranged from smallest to larges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numbers are in ascending ord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0,11,13,15,16,23,2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7238880" y="4495680"/>
            <a:ext cx="1752840" cy="2362320"/>
          </a:xfrm>
          <a:prstGeom prst="upArrow">
            <a:avLst>
              <a:gd name="adj1" fmla="val 50000"/>
              <a:gd name="adj2" fmla="val 33693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Descending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ranged from largest to smallest. Decreasi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100,45,22,18,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numbers are in descending or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5029200"/>
            <a:ext cx="2133720" cy="1828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Numerator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op number in a fractio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ow how many parts we hav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Two Thirds and Two Sixths of a Pie Fraction"/>
          <p:cNvPicPr/>
          <p:nvPr/>
        </p:nvPicPr>
        <p:blipFill>
          <a:blip r:embed="rId1"/>
          <a:stretch/>
        </p:blipFill>
        <p:spPr>
          <a:xfrm>
            <a:off x="5948280" y="3871800"/>
            <a:ext cx="33339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Denominator!!(=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bottom number in a frac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ow how many equal parts the item is divided into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Fraction Pie Divided into Quarters"/>
          <p:cNvPicPr/>
          <p:nvPr/>
        </p:nvPicPr>
        <p:blipFill>
          <a:blip r:embed="rId1"/>
          <a:stretch/>
        </p:blipFill>
        <p:spPr>
          <a:xfrm>
            <a:off x="6086520" y="4267080"/>
            <a:ext cx="29178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38:47Z</dcterms:created>
  <dc:creator>amber.kent</dc:creator>
  <dc:description/>
  <dc:language>en-US</dc:language>
  <cp:lastModifiedBy>amber.kent</cp:lastModifiedBy>
  <dcterms:modified xsi:type="dcterms:W3CDTF">2010-11-23T19:35:17Z</dcterms:modified>
  <cp:revision>2</cp:revision>
  <dc:subject/>
  <dc:title>-Vocabulary Kenlie andd                  Jalia!!(=</dc:title>
</cp:coreProperties>
</file>